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924-B364-4247-AF9D-526648CE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443C-D8D2-4360-B779-DC244150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4FD1-2BB9-4FAB-8466-D7C98B54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F473-C3DA-4568-9223-58B99A61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A4E4-C92C-41AB-B24C-38EFFBCA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66DC-5C8D-4908-9AB7-2B214840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491C-5232-482E-A48A-BA423D3B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8484-D9A3-4436-B95D-0A6948D0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C115-0AE4-4DE8-9DE1-54D80792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5B5D-69E4-40EA-83FC-AFA62051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2163-74EE-410F-8E29-2F1D50EC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8D0-46BD-4AD5-B9AE-2EE3F99B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5988-61D8-4443-AC27-5C1BD5E0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F237-2F0F-4DA8-910D-5186DE45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FD94-5A95-415B-A4C5-B20C2B16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99CA-B92B-4375-9BC3-93B3ADCA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A688-2DC1-4981-99A9-3C77F320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752-D48E-4B20-AA86-CC9F4A68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C4C-0857-4999-B720-8EE486E4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D21-5FA5-433E-BFC8-4A98D95B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C33B-355D-4682-B31E-25641A5D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DC1-7D9C-4F4E-B858-17FADB8D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164-50A4-43FE-892E-25BE3CAD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696-327A-4DA0-B7E8-8EC8AE43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B8D2-D693-4D5A-B396-CCE0A71A98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675B-8ECC-4CEF-901D-5AAA07D0F0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al the De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re Hubb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8ABF-B4B1-4374-874F-3A9AED842FDD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udience will be informed about seals; such as where they live (their habitat), their diet (what they eat) and their predators. They will be able to answer question If asked on the animal (spotted seal).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abitat, diet, predicato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tra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ertise my movie so that more people will watch it. If I advertise my movie well then I will be making more money then I would be losing advertising i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movie will be different because it will have a different way of presenting it such as; more information then most of movies and higher quality pictur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8:59:07Z</dcterms:created>
  <dc:creator/>
  <dc:description/>
  <dc:language>en-US</dc:language>
  <cp:lastModifiedBy>City School</cp:lastModifiedBy>
  <dcterms:modified xsi:type="dcterms:W3CDTF">2013-02-20T19:16:11Z</dcterms:modified>
  <cp:revision>39</cp:revision>
  <dc:subject/>
  <dc:title>The Pitch-Then-Plan Business Planning Template</dc:title>
</cp:coreProperties>
</file>